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A8F-729F-4F1B-A7DC-04943761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A08-CDEC-47D5-99D7-636CE94B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548-717A-4A3C-900E-E46185BA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F31-F567-4886-BD1B-BC64A8E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EF6-F080-4540-8325-112604E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5B6-703C-4CCA-A000-60C68EED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DE2-C687-4FE7-88CD-A6FDE93C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152-8812-454C-840A-7CE7A59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B51-9C6D-4F11-B5F2-B0002E31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656-629D-43CE-9BD7-BE7D270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DCD-C833-4F7F-8826-17F8668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E58-1E7C-434B-8517-E94BB88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B238-2A2A-44CC-BA79-E3DC1213B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9" descr=""/>
          <p:cNvPicPr/>
          <p:nvPr/>
        </p:nvPicPr>
        <p:blipFill>
          <a:blip r:embed="rId1"/>
          <a:stretch/>
        </p:blipFill>
        <p:spPr>
          <a:xfrm>
            <a:off x="1590840" y="2803680"/>
            <a:ext cx="1706400" cy="19015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4" descr=""/>
          <p:cNvPicPr/>
          <p:nvPr/>
        </p:nvPicPr>
        <p:blipFill>
          <a:blip r:embed="rId2"/>
          <a:stretch/>
        </p:blipFill>
        <p:spPr>
          <a:xfrm>
            <a:off x="4986360" y="2803680"/>
            <a:ext cx="1712880" cy="1927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750960" y="525600"/>
            <a:ext cx="77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Какие цифры можно поставить вместо звездочек, чтобы дробь была правильной (неправильной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3"/>
          <a:stretch/>
        </p:blipFill>
        <p:spPr>
          <a:xfrm>
            <a:off x="7478640" y="5056200"/>
            <a:ext cx="1067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2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1146240" cy="9205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29" descr=""/>
          <p:cNvPicPr/>
          <p:nvPr/>
        </p:nvPicPr>
        <p:blipFill>
          <a:blip r:embed="rId2"/>
          <a:stretch/>
        </p:blipFill>
        <p:spPr>
          <a:xfrm>
            <a:off x="1109520" y="3962520"/>
            <a:ext cx="138924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0" descr=""/>
          <p:cNvPicPr/>
          <p:nvPr/>
        </p:nvPicPr>
        <p:blipFill>
          <a:blip r:embed="rId3"/>
          <a:stretch/>
        </p:blipFill>
        <p:spPr>
          <a:xfrm>
            <a:off x="1109520" y="2462040"/>
            <a:ext cx="1146240" cy="920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31" descr=""/>
          <p:cNvPicPr/>
          <p:nvPr/>
        </p:nvPicPr>
        <p:blipFill>
          <a:blip r:embed="rId4"/>
          <a:stretch/>
        </p:blipFill>
        <p:spPr>
          <a:xfrm>
            <a:off x="3486240" y="950760"/>
            <a:ext cx="1635120" cy="9273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3" descr=""/>
          <p:cNvPicPr/>
          <p:nvPr/>
        </p:nvPicPr>
        <p:blipFill>
          <a:blip r:embed="rId5"/>
          <a:stretch/>
        </p:blipFill>
        <p:spPr>
          <a:xfrm>
            <a:off x="3486240" y="3932280"/>
            <a:ext cx="1141200" cy="920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4" descr=""/>
          <p:cNvPicPr/>
          <p:nvPr/>
        </p:nvPicPr>
        <p:blipFill>
          <a:blip r:embed="rId6"/>
          <a:stretch/>
        </p:blipFill>
        <p:spPr>
          <a:xfrm>
            <a:off x="3486240" y="2481120"/>
            <a:ext cx="105552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5" descr=""/>
          <p:cNvPicPr/>
          <p:nvPr/>
        </p:nvPicPr>
        <p:blipFill>
          <a:blip r:embed="rId7"/>
          <a:stretch/>
        </p:blipFill>
        <p:spPr>
          <a:xfrm>
            <a:off x="6199200" y="963720"/>
            <a:ext cx="1139760" cy="9205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8"/>
          <a:stretch/>
        </p:blipFill>
        <p:spPr>
          <a:xfrm>
            <a:off x="6199200" y="2481120"/>
            <a:ext cx="1633680" cy="927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9"/>
          <a:stretch/>
        </p:blipFill>
        <p:spPr>
          <a:xfrm>
            <a:off x="7470720" y="4159080"/>
            <a:ext cx="8841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2:18Z</dcterms:modified>
  <cp:revision>137</cp:revision>
  <dc:subject/>
  <dc:title>Презентация PowerPoint</dc:title>
</cp:coreProperties>
</file>